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ED4A-4517-472A-902C-D0508BA014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B97E-D338-48C5-8736-AD7CC17EDCD4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5ED0-6780-4A47-B2F9-5D8481654FA3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EDB1-3489-457A-95EE-96699BCF0FF0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4800-237A-46BC-9F4F-8E130EB988C9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9069-5F21-494C-BC8D-4F065C9DCF5F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3EE7-7713-42F1-BBAF-4727D4ED0278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3B21-83DB-49BD-8541-1D1945B6C7EA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47C4-3250-4471-9BE4-367F9692ED06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0564-C4EF-46FB-9A5C-26DFDAA0A7E8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EDF3-31AA-483C-BC20-40EC68C97776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B232-D545-46FF-84A4-3E77CF902A5D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1145-D865-45E9-A543-69146FD93214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EB47-79DD-4E48-8D50-0694A553C86E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9454-7961-4B4D-91AA-4621451D8DF2}" type="slidenum">
              <a:rPr b="0" lang="en-GB" sz="1200" spc="-1" strike="noStrike">
                <a:solidFill>
                  <a:srgbClr val="29293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1A21-8D14-4CD2-BB7F-236DA3A8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C6DE-411F-4ED4-B699-B1B55DD7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5285-87CD-4FF3-90A3-FE8A1BD7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2575-E65D-4703-A741-96334E06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047E-0BA7-4368-BAD3-F28FE9C4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87C6-F546-43AB-B64E-58AD10E5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49B4-2FAE-4D9A-A181-57BBBBBD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C3D4-A5FF-4DF1-AA67-FFF18363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1FE5-62DF-4BE2-9503-4A2CB88A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DB46-0A97-4550-A283-066616D0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1BEA-914E-4286-91A1-856E40F1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F64B-036B-43C5-BBB7-54116278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3E4D-7F53-4C8F-939A-6F1DDF43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1AE6-B2C6-4964-9C93-AF90BD93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9819-37E4-461A-81CA-DB842E9D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353D-3983-443E-91F5-45A6099F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7646-C356-47F6-B151-4778E0B3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DF747-6117-4782-AF0B-8BA35C21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12D3C-C2C1-48C7-9C1B-DCEC2520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F03CD-759E-44E8-93BD-541341E5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A8EC6-2E21-47D7-A6BC-8B832FE4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6E944-D80E-4E81-89BE-FA4E536A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A6D0-9737-441A-9B65-2332FDF6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BE70B-2837-407B-BCBA-80111026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308C4-D462-421C-B11E-B7F5857C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AC6AB-7208-4398-886D-9A58642B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30CE8-E5C6-4CFC-A3EE-324FD529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40698-289C-4037-ABDB-E72D33A5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71E08-1AAA-4EEE-A107-E3BF9C26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D6BA8-C226-4A91-8F43-56D30C33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7E044-530D-4DC5-8ECD-714830A2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779A9-1778-4D71-B26E-7E7F6F65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B6394-FB35-40D5-AF8D-C8F2A0EA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662A-7AC8-460B-9F65-35F3D194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864FE-AD86-4A4B-87E6-C5000604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91C5A-6227-4CBD-9D7B-C6678B2E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A8944-1C5E-4D7A-925D-8B06E400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A4AEB-5AD7-429B-83EA-01FF928D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7FA09-4C9B-4197-BA1A-6C30DE8B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E6A1E-E8EF-48B5-A5D7-9E1ECA27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85D51-5627-4372-A05F-BFE844CE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F949F-CE81-4611-B3EC-0659C13E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2F530-1834-4FC3-8C45-B1A3FA23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783A9-D115-454C-8B18-E3071943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DBA-458E-4BCF-8267-B0592CC9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D3764-1B52-4135-8946-C45A5FD3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CECF2-8C9E-43F3-8E83-E92CEDFD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5BAB0-0517-47D4-ACA5-383D8827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AECBE-CBA1-4FAE-8957-9B1F8D46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04873-3275-4C49-BA7A-BC7A58E9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CABE1-D245-48EB-8D5B-7B5B1EA8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42CAB-34F7-4101-9B72-5D4B2E8B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5B07F-F21A-4BE8-A87A-BABFED65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9E53F-44BC-4779-9213-B07DA8E4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0DDB7-644E-41B4-B677-429FF7FE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A172-D8B7-4889-8AD7-6023B116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C1745-BAB1-4FCD-92A3-617944F9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0D8A-DF8F-4E52-8E7C-C64914DE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DCDB-88CD-44E5-BB5D-79DBA118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0931-7A99-4083-8F29-93D7D42A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4B2C-BAB3-4702-A772-7F39D70797D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9CB6-DF0C-455A-8BDE-3BD87A52022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4F21-BD66-45DA-ABDF-C238AF06C29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CD82-F4A7-4468-8634-762FE133FFE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98F0-0B38-43F3-95A7-31F5C8260B5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2533c"/>
                </a:solidFill>
                <a:latin typeface="Arial"/>
              </a:rPr>
              <a:t>In depth  Interviews 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d2533c"/>
                </a:solidFill>
                <a:latin typeface="Arial"/>
              </a:rPr>
              <a:t>Shahaduz Zaman Ph.D. </a:t>
            </a:r>
            <a:br>
              <a:rPr sz="2800"/>
            </a:br>
            <a:r>
              <a:rPr b="1" i="1" lang="en-US" sz="2800" spc="-1" strike="noStrike">
                <a:solidFill>
                  <a:srgbClr val="d2533c"/>
                </a:solidFill>
                <a:latin typeface="Arial"/>
              </a:rPr>
              <a:t>Newcastle University, UK </a:t>
            </a:r>
            <a:r>
              <a:rPr b="0" i="1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Question Types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Demographic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standard background questions e.g. age, educa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Experience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experienced regarding a phenomena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Opinion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think about a topic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Question Types</a:t>
            </a: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13716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Behavior question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about what a person has done or is doing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Knowledge ques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get facts about a topic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Feeling question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 think…’ is not a feeling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While you are asking questions: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Take care of the sequence of questions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Ask the question properly (wording, double questions)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Take care asking ‘why’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8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If what people have to say about their world in generally boring to you, then it will be difficult for you to be a good In-Depth interviewer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Unless you are fascinated by the rich variation in human experience, qualitative interviewing will become toil.  </a:t>
            </a:r>
            <a:br>
              <a:rPr sz="2800"/>
            </a:br>
            <a:br>
              <a:rPr sz="2200"/>
            </a:b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I want to understand the world from your point of view, I want to know what you know in the way you know it. I want to listen to you until I think like you. </a:t>
            </a: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                             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2533c"/>
                </a:solidFill>
                <a:latin typeface="Arial"/>
              </a:rPr>
              <a:t>Interview types</a:t>
            </a:r>
            <a:br>
              <a:rPr sz="2900"/>
            </a:br>
            <a:endParaRPr b="0" lang="en-US" sz="29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Structured interviews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lose ended lead by researcher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Semi-structured interviews</a:t>
            </a: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Open  ended lead negotiated by researchers and participants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34"/>
                </a:solidFill>
                <a:latin typeface="Arial"/>
              </a:rPr>
              <a:t>Unstructured interviews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Open  ended lead by participant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his is also called, Ethnographic or In-depth interviews 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Qualitative research</a:t>
            </a: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mostly uses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Unstructured interview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lso called ‘Ethnographic’ or ‘In depth interviews’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8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InterViews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An inter change of views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Features of an In-Depth interview</a:t>
            </a: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Conversation with a purpose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t is unstructured but not unfocused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nd respondents are partners, working together to achieve the shared goal of understanding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533c"/>
                </a:solidFill>
                <a:latin typeface="Arial"/>
              </a:rPr>
              <a:t>Aim of In-depth Interview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find out from people those things that we can not directly observe…..People’s thoughts, feelings, intentions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o allow us to enter into other person’s  perspectives.(Emic View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2533c"/>
                </a:solidFill>
                <a:latin typeface="Arial"/>
              </a:rPr>
              <a:t>Structured Interview    Unstructured Interview</a:t>
            </a: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2900"/>
            </a:br>
            <a:r>
              <a:rPr b="0" lang="en-US" sz="2200" spc="-1" strike="noStrike">
                <a:solidFill>
                  <a:srgbClr val="d2533c"/>
                </a:solidFill>
                <a:latin typeface="Arial"/>
              </a:rPr>
              <a:t>(Survey)                                 (In-Depth)</a:t>
            </a:r>
            <a:r>
              <a:rPr b="0" lang="en-US" sz="2900" spc="-1" strike="noStrike">
                <a:solidFill>
                  <a:srgbClr val="d2533c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Same standard questions is asked to all respondents in the same seque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Professional tone, diversion ignor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Close ended questions with rare probe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4832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Questions and order are tailored to specific people and situation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More like a flexible, friendly conversa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Open ended questions and frequent prob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533c"/>
                </a:solidFill>
                <a:latin typeface="Arial"/>
              </a:rPr>
              <a:t>Structured Interview    Unstructured Interview</a:t>
            </a:r>
            <a:r>
              <a:rPr b="0" lang="en-US" sz="3200" spc="-1" strike="noStrike">
                <a:solidFill>
                  <a:srgbClr val="d2533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d2533c"/>
                </a:solidFill>
                <a:latin typeface="Arial"/>
              </a:rPr>
              <a:t>(Survey)                                 (In-Depth)</a:t>
            </a:r>
            <a:endParaRPr b="0" lang="en-US" sz="2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lone controls the direction of discussion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Social context have little value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48320" y="1673280"/>
            <a:ext cx="40384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Interviewer adjust to respondents norms. 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34"/>
                </a:solidFill>
                <a:latin typeface="Arial"/>
              </a:rPr>
              <a:t>Social context is crucial</a:t>
            </a:r>
            <a:endParaRPr b="0" lang="en-US" sz="27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basis for any interview is questioning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e need to be careful about what type of questions we are ask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6:47:23Z</dcterms:created>
  <dc:creator>User</dc:creator>
  <dc:description/>
  <dc:language>en-US</dc:language>
  <cp:lastModifiedBy>Zaman</cp:lastModifiedBy>
  <dcterms:modified xsi:type="dcterms:W3CDTF">2013-12-11T21:21:31Z</dcterms:modified>
  <cp:revision>62</cp:revision>
  <dc:subject/>
  <dc:title>Ethnographic Interview</dc:title>
</cp:coreProperties>
</file>